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4BF-5424-4B84-8EEE-B615AA83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1A5-C85B-41C4-820C-2FD3A3D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49F-A95D-4824-943B-0EDEF808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C0C-D9C8-435B-ACE4-DC86E3E8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DE7-6C7C-47BF-947B-7683326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DC3-C1D5-4BD3-9731-C8CF35B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E45-44B8-43CF-9E55-3799C2C3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5AF-1F90-45E3-9B6B-12F346A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F91-BA8F-4F3E-96E5-1AB844E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C59-AB91-4C43-BF63-7F1FAAC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36C-9ECF-4C4C-BF2F-F1ED909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535-3BC1-4B46-A028-A42BFC3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7F3-6248-41ED-AB29-3A1D3965AC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trwalamy swoje wiadomości o utworz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15968"/>
                </a:solidFill>
                <a:latin typeface="Calibri"/>
              </a:rPr>
              <a:t>Aleksandra Fred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800" spc="-1" strike="noStrike">
                <a:solidFill>
                  <a:srgbClr val="632523"/>
                </a:solidFill>
                <a:latin typeface="Arial Black"/>
              </a:rPr>
              <a:t>Zemst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898989"/>
                </a:solidFill>
                <a:latin typeface="Calibri"/>
              </a:rPr>
              <a:t>Komedia w czterech aktach, wiersz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az 1" descr="cześnik.jpg"/>
          <p:cNvPicPr/>
          <p:nvPr/>
        </p:nvPicPr>
        <p:blipFill>
          <a:blip r:embed="rId1"/>
          <a:stretch/>
        </p:blipFill>
        <p:spPr>
          <a:xfrm>
            <a:off x="1585800" y="1428840"/>
            <a:ext cx="5972400" cy="400032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2"/>
          <p:cNvSpPr/>
          <p:nvPr/>
        </p:nvSpPr>
        <p:spPr>
          <a:xfrm>
            <a:off x="1857240" y="785880"/>
            <a:ext cx="25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eśnik i Dynd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1" descr="fredro.jpg"/>
          <p:cNvPicPr/>
          <p:nvPr/>
        </p:nvPicPr>
        <p:blipFill>
          <a:blip r:embed="rId1"/>
          <a:stretch/>
        </p:blipFill>
        <p:spPr>
          <a:xfrm>
            <a:off x="2571840" y="785880"/>
            <a:ext cx="4714920" cy="512604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2"/>
          <p:cNvSpPr/>
          <p:nvPr/>
        </p:nvSpPr>
        <p:spPr>
          <a:xfrm>
            <a:off x="940680" y="107172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03152"/>
                </a:solidFill>
                <a:latin typeface="Calibri"/>
              </a:rPr>
              <a:t>1793-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187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0000"/>
                </a:solidFill>
                <a:latin typeface="Calibri"/>
              </a:rPr>
              <a:t>Nie masz nic tak złego, żeby się na dobre</a:t>
            </a:r>
            <a:br>
              <a:rPr sz="3200"/>
            </a:br>
            <a:r>
              <a:rPr b="0" i="1" lang="pl-PL" sz="3200" spc="-1" strike="noStrike">
                <a:solidFill>
                  <a:srgbClr val="ff0000"/>
                </a:solidFill>
                <a:latin typeface="Calibri"/>
              </a:rPr>
              <a:t>nie przydało. Bywa z węża dryjakiew złe</a:t>
            </a:r>
            <a:br>
              <a:rPr sz="3200"/>
            </a:br>
            <a:r>
              <a:rPr b="0" i="1" lang="pl-PL" sz="3200" spc="-1" strike="noStrike">
                <a:solidFill>
                  <a:srgbClr val="ff0000"/>
                </a:solidFill>
                <a:latin typeface="Calibri"/>
              </a:rPr>
              <a:t>często dobremu okazją da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d. Maks. Fred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as i miejsce ak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0253f"/>
                </a:solidFill>
                <a:latin typeface="Calibri"/>
              </a:rPr>
              <a:t>Czas: początek wieku X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84807"/>
                </a:solidFill>
                <a:latin typeface="Calibri"/>
              </a:rPr>
              <a:t>Miejsce: „scena na wsi”, zamek szlachecki na prowin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eneza utw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3152"/>
                </a:solidFill>
                <a:latin typeface="Calibri"/>
              </a:rPr>
              <a:t>Spór Jana Skotnickiego z Piotrem Firlejem, właścicielami  zamku w Odrzykon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3152"/>
                </a:solidFill>
                <a:latin typeface="Calibri"/>
              </a:rPr>
              <a:t>zakończony małżeństwem młodego Ferleja z Zofią Skotnic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Informacje autor zaczerpnął ze starych dokumentów znalezionych w archiwum zamku w Odrzykoni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ohaterow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Cześnik Raptus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Rejent Milcz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Papk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K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Wacł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Podsto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Dyndal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0253f"/>
                </a:solidFill>
                <a:latin typeface="Calibri"/>
              </a:rPr>
              <a:t>Śmigal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1" descr="papkin.jpg"/>
          <p:cNvPicPr/>
          <p:nvPr/>
        </p:nvPicPr>
        <p:blipFill>
          <a:blip r:embed="rId1"/>
          <a:stretch/>
        </p:blipFill>
        <p:spPr>
          <a:xfrm>
            <a:off x="1285920" y="1214280"/>
            <a:ext cx="6624720" cy="43945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2"/>
          <p:cNvSpPr/>
          <p:nvPr/>
        </p:nvSpPr>
        <p:spPr>
          <a:xfrm>
            <a:off x="1585440" y="1071720"/>
            <a:ext cx="52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man Polański w roli Papk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1" descr="podstolina.jpg"/>
          <p:cNvPicPr/>
          <p:nvPr/>
        </p:nvPicPr>
        <p:blipFill>
          <a:blip r:embed="rId1"/>
          <a:stretch/>
        </p:blipFill>
        <p:spPr>
          <a:xfrm>
            <a:off x="5643720" y="285840"/>
            <a:ext cx="2695320" cy="6278400"/>
          </a:xfrm>
          <a:prstGeom prst="rect">
            <a:avLst/>
          </a:prstGeom>
          <a:ln w="0">
            <a:noFill/>
          </a:ln>
        </p:spPr>
      </p:pic>
      <p:pic>
        <p:nvPicPr>
          <p:cNvPr id="58" name="Obraz 2" descr="klara i podstolina.jpg"/>
          <p:cNvPicPr/>
          <p:nvPr/>
        </p:nvPicPr>
        <p:blipFill>
          <a:blip r:embed="rId2"/>
          <a:stretch/>
        </p:blipFill>
        <p:spPr>
          <a:xfrm>
            <a:off x="268200" y="1857240"/>
            <a:ext cx="5224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8:38:49Z</dcterms:created>
  <dc:creator>q</dc:creator>
  <dc:description/>
  <dc:language>en-US</dc:language>
  <cp:lastModifiedBy>q</cp:lastModifiedBy>
  <dcterms:modified xsi:type="dcterms:W3CDTF">2010-02-15T20:20:33Z</dcterms:modified>
  <cp:revision>15</cp:revision>
  <dc:subject/>
  <dc:title>Utrwalamy swoje wiadomości o </dc:title>
</cp:coreProperties>
</file>