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0AF-AFED-4EC6-BA58-11627356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36A-727A-4804-B57A-736F43FD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49F-37B1-4DB0-BDDE-38361312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1FC-AB9E-458B-89FF-B4E9D8A8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083A-5973-4C4D-8F0B-EFD0F47A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8B60-5664-468A-8DC3-AFFBFC5F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5969-78D7-434A-A3C8-B6D2AFB6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2FCE-6248-4F15-83B6-E730331B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58A5-92BA-435B-AAA8-B4DB4B91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2463-4E8D-4252-A9F8-14B695A5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B24D-1D58-4FC1-998A-9FD992EE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95D-1894-4BBF-88C3-B188284F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C1B-2FAF-4144-97C3-C0BA878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008A-3BB2-41D9-80B1-456614CB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ED33-5D1B-44BB-AFF7-4BBDE59B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F7BE-04C4-495B-B7AF-2FF7C2CB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128A-E0E2-4553-8FC4-1AD41CEA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6252-B768-4BC5-8212-63B0645D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EDB21-D201-4008-8640-F789468B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2443-051C-4833-A4C3-FB23C1F0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EB56-BC09-4C49-BF38-B6FDFFA0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44B5-D171-4CA9-90F5-B0E30217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36B-9063-4AFC-A6A0-B99E541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AD4D-3BA7-401A-853D-792C2875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5CB0B-820C-4551-B1A4-E286AEB9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F2DA-1CB0-4578-9EF2-E6141D4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D03B-5300-4661-89EB-AA1929A0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DF80-FB17-49BC-AB27-2E69DB41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C5D2-3D7E-40EE-949C-D53E0426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0BBB-E0C8-4188-81D5-FBA6A21C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7671-5B00-43E7-8012-EA8117EE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AA8B-3DAA-421B-9995-B87F3635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3513-FE44-4CB9-95D6-AB87F4C8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458-32E3-4A9B-BD9F-CDD823CE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E7FE-B310-4D93-8625-C739FEE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33C0-24AB-48DE-B4C7-C9287539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509F-87D0-4B6D-BC8F-EDB7D964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CC82-27BD-40A8-85FA-1CADF331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035C-EDBD-4F05-8211-B38DC29A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2B224-BB98-44D4-9A70-D6EF30C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268E-6848-47FA-867D-A263E11D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AD5FA-456F-42D4-8311-FFF72460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C289-07DA-44BD-AD90-4F113A45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51EE-4166-4152-8538-FD10299D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B58-3B7B-4457-A029-260E1370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664A2-0E6E-4FBA-B936-810E6115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142BA-DF94-4C40-964D-09A33E9B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404A2-94BD-4785-AED5-1211EB75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E983-438A-46EA-B570-D6F5FA4D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1F5E-452D-4580-9EA3-78822387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3CC7E-D8CB-41A3-B60F-E4AD219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B5B3D-740A-4B11-A8EC-D3F3AB6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C361-C9C6-4349-B7F5-FF69FFC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17EA-E25F-49F0-86FF-1F727D4D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3D020-25D1-4323-90CD-306A3D17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5B1-C67E-490D-87AF-B813E352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680B5-1369-4193-B0D7-1610FB21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ED31-6CD3-4108-959C-8A1539CC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D6AB0-8EBA-4324-B73A-2D96F446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F7BD-D140-4230-9518-B70D9F86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A7EFB-6955-4450-B375-627A5B0D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2EF75-6E6B-4774-9A41-9F0CDE09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F10A8-B5CA-4E2D-9804-152E6ECC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8B852-F778-4EE1-AE8B-FD87D3CF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468C4-34B5-4130-9DB6-A317DB50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000E-6A1F-44B3-BE6C-BAA59F5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F0B-1F28-40F6-B6AD-E5434842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6445-A252-4FF3-83D7-C2FE6E66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E2EA0-FDF7-4323-BDB8-C70A4D0F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4D509-CD44-41E5-9F57-0E2F42C3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66F14-1630-466D-BEAF-A1248C0D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ED27D-D628-4E28-A0C3-3E038384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898EA-6312-4B72-BA13-117BC493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F6A7-B73B-48A7-B237-830BF310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5B4C3-7EA2-49F8-BE3C-2974A355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D1EB-B768-4E12-B5CE-ED9A7EDA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A83AE-2A99-413C-B4AB-03F82FB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32A-09E7-4346-867D-BAB3B0C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D2C87-7B05-4D2C-A72C-92ED3FA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474C-34C2-4480-A833-21B2B4BA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2D590-5581-4EEE-9BE4-8C685DF2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5619C-DA09-401C-B829-29404C9E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B57F4-C24D-4109-A8E7-C0E80A31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078-E627-4FF9-93EB-39E5ED00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8672-7348-483C-A75E-1FE7AE7FF23B}" type="datetime">
              <a:rPr b="0" lang="en-GB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91B6-09C2-4C9A-8D16-8DB96F345CB2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CDAB-51EE-4157-AE4B-5BFBBCD35A43}" type="datetime">
              <a:rPr b="0" lang="en-GB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0A0F-FBF4-4CAE-A0F3-108F8EAAB8B4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41DA-BF8B-43A7-B8AA-3A0827A9A73D}" type="datetime">
              <a:rPr b="0" lang="en-GB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32B7-8707-4C19-AFCE-87EB00AD0AF5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00A6-0406-4A9E-BE55-6C29E5519616}" type="datetime">
              <a:rPr b="0" lang="en-GB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7B59-C33B-4DE8-B900-E94357F8F1F6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B5C6-9660-4464-B7CB-93FBA40E6B8C}" type="datetime">
              <a:rPr b="0" lang="en-GB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01F7-0994-4DB7-8BC1-AEC4551A74C1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8E6C-4E3E-4C98-9461-FCB26E3653B3}" type="datetime">
              <a:rPr b="0" lang="en-GB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E55E-458F-4E04-82F3-CC02D3CFFBF7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37C9-D000-4FC7-9F5D-1B50196288AD}" type="datetime">
              <a:rPr b="0" lang="en-GB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FD38-8299-47EA-ABE6-9D9AAE57AFA8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62626"/>
                </a:solidFill>
                <a:latin typeface="Verdana"/>
                <a:ea typeface="Verdana"/>
              </a:rPr>
              <a:t>Uczestnictwo w szkoleniach organizowanych przez wydawnictwa oświatow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258920" y="2071440"/>
            <a:ext cx="7407360" cy="520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„</a:t>
            </a: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Komunikacja to podstawa” (GW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Egzamin gimnazjalny z Operonem – program przygotowań dla  ucznia i nauczyciela (Operon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Seminarium „Człowiek wobec romantycznej tajemnicy egzystencji” (WSiP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964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62626"/>
                </a:solidFill>
                <a:latin typeface="Verdana"/>
                <a:ea typeface="Verdana"/>
              </a:rPr>
              <a:t>Uczestnictwo w szkoleniowych posiedzeniach rady pedagogicznej dotyczących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9640" y="2071440"/>
            <a:ext cx="7407000" cy="520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Emisji głosu w zawodzie nauczycie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Agresji, konfliktów i mediacj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Trudności wychowawczych i relacji szkoła-do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Programu „Szkoła promująca zdrowie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Motywowania ucznia do nauk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Problemów funkcjonowania w szkole dzieci przewlekle chory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Depresji u dzieci i młodzież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Oceniania ucznió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62626"/>
                </a:solidFill>
                <a:latin typeface="Verdana"/>
                <a:ea typeface="Verdana"/>
              </a:rPr>
              <a:t>Uzupełnianie i pogłębianie wiedzy i umiejętności poprzez czytanie: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258920" y="2071440"/>
            <a:ext cx="7407360" cy="520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Literatury fachowej („Uczymy się uczyć” Mela Silberman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Opracowań historycznoliteracki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Czasopism dla nauczycieli („Nowa Polszczyzna”, „Wszystko dla Szkoły”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475a8d"/>
                </a:solidFill>
                <a:latin typeface="Verdana"/>
                <a:ea typeface="Verdana"/>
              </a:rPr>
              <a:t>Współpraca z nauczycielami – wymiana doświadczeń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Udział w zebraniach zespołu przedmiotoweg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Uczestnictwo w pracach zespołu powołanego do opracowania planu naprawczeg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475a8d"/>
                </a:solidFill>
                <a:latin typeface="Verdana"/>
                <a:ea typeface="Verdana"/>
              </a:rPr>
              <a:t>Współpraca z nauczycielami – wymiana doświadczeń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rowadzenie zajęć w obecności pani dyrektor oraz opiekuna stażu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Konsultacje z doradcą metodycznym, p. Elżbietą Dominia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Wzbogacanie warsztatu pracy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rzygotowywanie pomocy dydaktycznych (ćwiczeń, kart pracy</a:t>
            </a:r>
            <a:r>
              <a:rPr b="0" lang="en-GB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) oraz sprawdzianów, testów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bieranie plansz dydaktycznych, portretów pisarzy oraz audiobookó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pic>
        <p:nvPicPr>
          <p:cNvPr id="369" name="treny-tren-viii.mp3" descr=""/>
          <p:cNvPicPr/>
          <p:nvPr/>
        </p:nvPicPr>
        <p:blipFill>
          <a:blip r:embed="rId2"/>
          <a:stretch/>
        </p:blipFill>
        <p:spPr>
          <a:xfrm>
            <a:off x="759636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093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Wzbogacanie warsztatu pracy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ozyskanie pieniędzy od sponsora na zakup dwóch tablic korkowych dla klas Oddziału Przysposabiającego do Pra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wykorzystanie gazetki do prezentacji materiałów z literatury i nauki o języku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Doskonalenie warsztatu pracy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Opracowanie scenariuszy oraz przygotowanie inscenizacji uroczystości szkolnych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Dnia Edukacji Narodowej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Wieczornic poetycki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słuchowiska na temat agresji sowieckiej na Polskę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547640" y="1268280"/>
            <a:ext cx="7407360" cy="322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320e04"/>
                </a:solidFill>
                <a:latin typeface="Verdana"/>
              </a:rPr>
              <a:t>Wymagania egzaminacyjne 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320e04"/>
                </a:solidFill>
                <a:latin typeface="Verdana"/>
              </a:rPr>
              <a:t>§ 7 ust.2 pkt. 2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900" spc="-1" strike="noStrike">
                <a:solidFill>
                  <a:srgbClr val="320e04"/>
                </a:solidFill>
                <a:latin typeface="Verdana"/>
              </a:rPr>
              <a:t>„</a:t>
            </a:r>
            <a:r>
              <a:rPr b="0" i="1" lang="pl-PL" sz="2900" spc="-1" strike="noStrike">
                <a:solidFill>
                  <a:srgbClr val="320e04"/>
                </a:solidFill>
                <a:latin typeface="Verdana"/>
              </a:rPr>
              <a:t>Umiejętność uwzględniania w pracy potrzeb rozwojowych uczniów, problematyki środowiska lokalnego oraz współczesnych problemów społecznych i cywilizacyjnych“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Organizacja zajęć dodatkowych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rowadzenie z własnej inicjatywy zajęć z uczniami Gimnazjum nr 2 (rok szkolny 2007/2008 – raz w tygodniu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ajęcia dla młodzieży OPdP (rok szkolny 2008/2009 – co dwa tygodn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ymbol zastępczy stopki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Organizacja zajęć dodatkowych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rowadzenie we współpracy z wychowawczynią ŚHP, p. Karoliną Domagalską spotkań koła patriotycznego (II okres roku szkolnego 2009/2010 – raz w miesiącu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organizowanie konkursu wiedzy o Janie Pawle II dla młodzieży OPdP (maj 201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Obraz 6" descr="slajd 21.jpg"/>
          <p:cNvPicPr/>
          <p:nvPr/>
        </p:nvPicPr>
        <p:blipFill>
          <a:blip r:embed="rId1"/>
          <a:stretch/>
        </p:blipFill>
        <p:spPr>
          <a:xfrm>
            <a:off x="1440000" y="0"/>
            <a:ext cx="6576840" cy="4937040"/>
          </a:xfrm>
          <a:prstGeom prst="rect">
            <a:avLst/>
          </a:prstGeom>
          <a:ln w="0">
            <a:noFill/>
          </a:ln>
        </p:spPr>
      </p:pic>
      <p:pic>
        <p:nvPicPr>
          <p:cNvPr id="390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391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organizowanie konkursu wiedzy o Janie Pawle II dla młodzieży OPdP (maj 201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Obraz 5" descr="slajd 22.jpg"/>
          <p:cNvPicPr/>
          <p:nvPr/>
        </p:nvPicPr>
        <p:blipFill>
          <a:blip r:embed="rId1"/>
          <a:stretch/>
        </p:blipFill>
        <p:spPr>
          <a:xfrm>
            <a:off x="1440000" y="0"/>
            <a:ext cx="7510320" cy="5638680"/>
          </a:xfrm>
          <a:prstGeom prst="rect">
            <a:avLst/>
          </a:prstGeom>
          <a:ln w="0">
            <a:noFill/>
          </a:ln>
        </p:spPr>
      </p:pic>
      <p:pic>
        <p:nvPicPr>
          <p:cNvPr id="394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395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organizowanie konkursu wiedzy o Janie Pawle II dla młodzieży OPdP (maj 201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Obraz 5" descr="slajd 23.jpg"/>
          <p:cNvPicPr/>
          <p:nvPr/>
        </p:nvPicPr>
        <p:blipFill>
          <a:blip r:embed="rId1"/>
          <a:stretch/>
        </p:blipFill>
        <p:spPr>
          <a:xfrm>
            <a:off x="1440000" y="0"/>
            <a:ext cx="7370640" cy="5529240"/>
          </a:xfrm>
          <a:prstGeom prst="rect">
            <a:avLst/>
          </a:prstGeom>
          <a:ln w="0">
            <a:noFill/>
          </a:ln>
        </p:spPr>
      </p:pic>
      <p:pic>
        <p:nvPicPr>
          <p:cNvPr id="398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399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organizowanie konkursu wiedzy o Janie Pawle II dla młodzieży OPdP (maj 201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Przygotowanie uczniów do konkursów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„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Gwara Wielkopolski” (konkurs międzyszkolny – listopad 2009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„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Wśród bogów i bohaterów starożytnej Grecji” (konkurs międzyszkolny – maj 2010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Współpraca z instytucjami lokalnymi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organizowanie zajęć w Komendzie Powiatowej Policji oraz w Komendzie Powiatowej Straży Pożarnej w Krotoszyn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udział uczniów w spotkaniach w Krotoszyńskim Klubie Pra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udział uczniów w imprezach kulturalnych organizowanych przez Bibliotekę Miejsk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Obraz 6" descr="slajd26.jpg"/>
          <p:cNvPicPr/>
          <p:nvPr/>
        </p:nvPicPr>
        <p:blipFill>
          <a:blip r:embed="rId1"/>
          <a:stretch/>
        </p:blipFill>
        <p:spPr>
          <a:xfrm>
            <a:off x="1440000" y="0"/>
            <a:ext cx="7164360" cy="5183280"/>
          </a:xfrm>
          <a:prstGeom prst="rect">
            <a:avLst/>
          </a:prstGeom>
          <a:ln w="0">
            <a:noFill/>
          </a:ln>
        </p:spPr>
      </p:pic>
      <p:sp>
        <p:nvSpPr>
          <p:cNvPr id="410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409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wyjście z uczniami OPdP do Muzeum Regionalnego (zwiedzanie wystawy poświęconej ofiarom Katynia oraz ekspozycji stałe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Obraz 7" descr="Obraz1.jpg"/>
          <p:cNvPicPr/>
          <p:nvPr/>
        </p:nvPicPr>
        <p:blipFill>
          <a:blip r:embed="rId1"/>
          <a:stretch/>
        </p:blipFill>
        <p:spPr>
          <a:xfrm>
            <a:off x="1440000" y="0"/>
            <a:ext cx="7453080" cy="5592600"/>
          </a:xfrm>
          <a:prstGeom prst="rect">
            <a:avLst/>
          </a:prstGeom>
          <a:ln w="0">
            <a:noFill/>
          </a:ln>
        </p:spPr>
      </p:pic>
      <p:sp>
        <p:nvSpPr>
          <p:cNvPr id="414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409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wyjście z uczniami OPdP do Muzeum Regionalnego (zwiedzanie wystawy poświęconej ofiarom Katynia oraz ekspozycji stałe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Obraz 5" descr="slajd28.jpg"/>
          <p:cNvPicPr/>
          <p:nvPr/>
        </p:nvPicPr>
        <p:blipFill>
          <a:blip r:embed="rId1"/>
          <a:stretch/>
        </p:blipFill>
        <p:spPr>
          <a:xfrm>
            <a:off x="1440000" y="0"/>
            <a:ext cx="7380000" cy="5540400"/>
          </a:xfrm>
          <a:prstGeom prst="rect">
            <a:avLst/>
          </a:prstGeom>
          <a:ln w="0">
            <a:noFill/>
          </a:ln>
        </p:spPr>
      </p:pic>
      <p:sp>
        <p:nvSpPr>
          <p:cNvPr id="418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409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wyjście z uczniami OPdP do Muzeum Regionalnego (zwiedzanie wystawy poświęconej ofiarom Katynia oraz ekspozycji stałe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Działalność wychowawcza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uwrażliwienie uczniów na współczesne problemy społeczne i cywilizacyjne (ekologia, nietolerancja, uzależnieni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75a8d"/>
                </a:solidFill>
                <a:latin typeface="Verdana"/>
                <a:ea typeface="Verdana"/>
              </a:rPr>
              <a:t>Prezentacja dorobku zawodowego</a:t>
            </a:r>
            <a:br>
              <a:rPr sz="3600"/>
            </a:br>
            <a:r>
              <a:rPr b="0" lang="en-US" sz="3600" spc="-1" strike="noStrike">
                <a:solidFill>
                  <a:srgbClr val="475a8d"/>
                </a:solidFill>
                <a:latin typeface="Verdana"/>
                <a:ea typeface="Verdana"/>
              </a:rPr>
              <a:t>nauczyciela kontraktowego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964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Agnieszka Syroczyńs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Obraz 5" descr="slajd30.jpg"/>
          <p:cNvPicPr/>
          <p:nvPr/>
        </p:nvPicPr>
        <p:blipFill>
          <a:blip r:embed="rId1"/>
          <a:stretch/>
        </p:blipFill>
        <p:spPr>
          <a:xfrm>
            <a:off x="1440000" y="0"/>
            <a:ext cx="7197480" cy="5407200"/>
          </a:xfrm>
          <a:prstGeom prst="rect">
            <a:avLst/>
          </a:prstGeom>
          <a:ln w="0">
            <a:noFill/>
          </a:ln>
        </p:spPr>
      </p:pic>
      <p:sp>
        <p:nvSpPr>
          <p:cNvPr id="426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Opieka nad uczniami podczas wycieczek, ognisk, imprez, np. z okazji Dnia Dziec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Obraz 6" descr="slajd 31.jpg"/>
          <p:cNvPicPr/>
          <p:nvPr/>
        </p:nvPicPr>
        <p:blipFill>
          <a:blip r:embed="rId1"/>
          <a:stretch/>
        </p:blipFill>
        <p:spPr>
          <a:xfrm>
            <a:off x="1440000" y="0"/>
            <a:ext cx="7446960" cy="5589720"/>
          </a:xfrm>
          <a:prstGeom prst="rect">
            <a:avLst/>
          </a:prstGeom>
          <a:ln w="0">
            <a:noFill/>
          </a:ln>
        </p:spPr>
      </p:pic>
      <p:sp>
        <p:nvSpPr>
          <p:cNvPr id="430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Opieka nad uczniami podczas wycieczek, ognisk, imprez, np. z okazji Dnia Dziec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Obraz 5" descr="slajd32.jpg"/>
          <p:cNvPicPr/>
          <p:nvPr/>
        </p:nvPicPr>
        <p:blipFill>
          <a:blip r:embed="rId1"/>
          <a:stretch/>
        </p:blipFill>
        <p:spPr>
          <a:xfrm>
            <a:off x="1440000" y="0"/>
            <a:ext cx="7507080" cy="5013360"/>
          </a:xfrm>
          <a:prstGeom prst="rect">
            <a:avLst/>
          </a:prstGeom>
          <a:ln w="0">
            <a:noFill/>
          </a:ln>
        </p:spPr>
      </p:pic>
      <p:sp>
        <p:nvSpPr>
          <p:cNvPr id="434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36" name="pole tekstowe 5"/>
          <p:cNvSpPr/>
          <p:nvPr/>
        </p:nvSpPr>
        <p:spPr>
          <a:xfrm>
            <a:off x="1710360" y="5445000"/>
            <a:ext cx="6765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pieka nad młodzieżą podczas wycieczek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Srebrna Gó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Obraz 5" descr="slajd33.jpg"/>
          <p:cNvPicPr/>
          <p:nvPr/>
        </p:nvPicPr>
        <p:blipFill>
          <a:blip r:embed="rId1"/>
          <a:stretch/>
        </p:blipFill>
        <p:spPr>
          <a:xfrm>
            <a:off x="1440000" y="0"/>
            <a:ext cx="7308720" cy="5487840"/>
          </a:xfrm>
          <a:prstGeom prst="rect">
            <a:avLst/>
          </a:prstGeom>
          <a:ln w="0">
            <a:noFill/>
          </a:ln>
        </p:spPr>
      </p:pic>
      <p:sp>
        <p:nvSpPr>
          <p:cNvPr id="438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40" name="pole tekstowe 5"/>
          <p:cNvSpPr/>
          <p:nvPr/>
        </p:nvSpPr>
        <p:spPr>
          <a:xfrm>
            <a:off x="1569240" y="5500800"/>
            <a:ext cx="59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Organizowanie spotkań wigil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Obraz 5" descr="slajd34.jpg"/>
          <p:cNvPicPr/>
          <p:nvPr/>
        </p:nvPicPr>
        <p:blipFill>
          <a:blip r:embed="rId1"/>
          <a:stretch/>
        </p:blipFill>
        <p:spPr>
          <a:xfrm>
            <a:off x="1440000" y="0"/>
            <a:ext cx="7350120" cy="5516640"/>
          </a:xfrm>
          <a:prstGeom prst="rect">
            <a:avLst/>
          </a:prstGeom>
          <a:ln w="0">
            <a:noFill/>
          </a:ln>
        </p:spPr>
      </p:pic>
      <p:sp>
        <p:nvSpPr>
          <p:cNvPr id="442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Obraz 6" descr="vfnh.png"/>
          <p:cNvPicPr/>
          <p:nvPr/>
        </p:nvPicPr>
        <p:blipFill>
          <a:blip r:embed="rId2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44" name="pole tekstowe 5"/>
          <p:cNvSpPr/>
          <p:nvPr/>
        </p:nvSpPr>
        <p:spPr>
          <a:xfrm>
            <a:off x="1569240" y="5500800"/>
            <a:ext cx="59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Organizowanie spotkań wigil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547640" y="1268280"/>
            <a:ext cx="7407360" cy="322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20e04"/>
                </a:solidFill>
                <a:latin typeface="Verdana"/>
                <a:ea typeface="Verdana"/>
              </a:rPr>
              <a:t>Wymagania egzaminacyj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20e04"/>
                </a:solidFill>
                <a:latin typeface="Verdana"/>
                <a:ea typeface="Verdana"/>
              </a:rPr>
              <a:t>§ 7 ust. 2 pkt.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20e04"/>
                </a:solidFill>
                <a:latin typeface="Verdana"/>
                <a:ea typeface="Verdana"/>
              </a:rPr>
              <a:t>„</a:t>
            </a:r>
            <a:r>
              <a:rPr b="0" lang="pl-PL" sz="2800" spc="-1" strike="noStrike">
                <a:solidFill>
                  <a:srgbClr val="320e04"/>
                </a:solidFill>
                <a:latin typeface="Verdana"/>
                <a:ea typeface="Verdana"/>
              </a:rPr>
              <a:t>Umiejętność wykorzystywania w pracy technologii informacyjnej i komunikacyjnej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Udział w warsztatach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„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astosowanie technologii informatycznych w pracy nauczyciela – program PowerPoint” (ODN Kalisz – 16 godz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- Wykonanie prezentacji dla kl. II na temat „Zemsty” Aleksandra Fred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Wykorzystywanie komputera do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rzygotowywania planów, rozkładów, sprawdzianów, kart pracy dla ucznió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ozyskiwania z Internetu pomocy dydaktycznych (np. ćwiczeń, audiobo</a:t>
            </a:r>
            <a:r>
              <a:rPr b="0" lang="en-GB" sz="2600" spc="-1" strike="noStrike">
                <a:solidFill>
                  <a:srgbClr val="320e04"/>
                </a:solidFill>
                <a:latin typeface="Verdana"/>
              </a:rPr>
              <a:t>o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ków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Wykorzystywanie komputera do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apoznawania się z zasobami portali edukacyjnych (np. www.profesor.pl, www.literka.pl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Kontaktowania się z uczniami, rodzicami i kuratorami poprzez pocztę elektroniczn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rowadzenie zajęć w pracowni komputerowej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Zachęcanie uczniów do świadomego i bezpiecznego korzystania z komputera i Internet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547640" y="126792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20e04"/>
                </a:solidFill>
                <a:latin typeface="Verdana"/>
              </a:rPr>
              <a:t>Wymagania egzaminacyj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20e04"/>
                </a:solidFill>
                <a:latin typeface="Verdana"/>
              </a:rPr>
              <a:t>§ 7 ust. 2 pkt. 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20e04"/>
                </a:solidFill>
                <a:latin typeface="Verdana"/>
              </a:rPr>
              <a:t>“</a:t>
            </a:r>
            <a:r>
              <a:rPr b="0" i="1" lang="pl-PL" sz="2800" spc="-1" strike="noStrike">
                <a:solidFill>
                  <a:srgbClr val="320e04"/>
                </a:solidFill>
                <a:latin typeface="Verdana"/>
              </a:rPr>
              <a:t>Umiejętność organizacji i doskonalenia warsztatu pracy, dokonywania ewaluacji własnych działań,  a także oceniania ich skuteczności i dokonywania zmian  w tych  działaniach</a:t>
            </a:r>
            <a:r>
              <a:rPr b="0" lang="en-GB" sz="2800" spc="-1" strike="noStrike">
                <a:solidFill>
                  <a:srgbClr val="320e04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320e04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47640" y="1268280"/>
            <a:ext cx="7407360" cy="322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20e04"/>
                </a:solidFill>
                <a:latin typeface="Verdana"/>
              </a:rPr>
              <a:t>Wymagania egzaminacyj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20e04"/>
                </a:solidFill>
                <a:latin typeface="Verdana"/>
              </a:rPr>
              <a:t>§ 7 ust. 2 pkt. 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320e04"/>
                </a:solidFill>
                <a:latin typeface="Verdana"/>
              </a:rPr>
              <a:t>„</a:t>
            </a:r>
            <a:r>
              <a:rPr b="0" i="1" lang="pl-PL" sz="2800" spc="-1" strike="noStrike">
                <a:solidFill>
                  <a:srgbClr val="320e04"/>
                </a:solidFill>
                <a:latin typeface="Verdana"/>
              </a:rPr>
              <a:t>Umiejętność zastosowania wiedzy z zakresu psychologii, pedagogiki i dydaktyki oraz ogólnych zagadnień z zakresu oświaty, pomocy społecznej lub postępowania w sprawach nieletnich w rozwiązywaniu problemów związanych z zakresem realizowanych przez nauczyciela zadań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Praca wychowawcz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0e04"/>
                </a:solidFill>
                <a:latin typeface="Verdana"/>
              </a:rPr>
              <a:t>Poznawanie sytuacji rodzinnej uczniów poprzez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0e04"/>
                </a:solidFill>
                <a:latin typeface="Verdana"/>
              </a:rPr>
              <a:t>rozmowy z uczniami, rodzicami, kuratorami, kontakty telefoniczne i e-mailow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320e04"/>
                </a:solidFill>
                <a:latin typeface="Verdana"/>
              </a:rPr>
              <a:t>zapoznanie się z opiniami Poradni Psychologiczno-Pedagogiczne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320e04"/>
                </a:solidFill>
                <a:latin typeface="Verdana"/>
              </a:rPr>
              <a:t>wizyty domowe u uczniów (1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Praca wychowawcz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Kontakty z pracodawcam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konsultacje z wychowawcami ze Środowiskowego Hufca Pra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rozmowy z pedagogiem szkolny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475a8d"/>
                </a:solidFill>
                <a:latin typeface="Verdana"/>
                <a:ea typeface="Verdana"/>
              </a:rPr>
              <a:t>Pogłębianie wiedzy z zakresu pedagogiki i psychologii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Udział w szkolenia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Czytanie literatury fachowe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Lucyna Bojarska, </a:t>
            </a:r>
            <a:r>
              <a:rPr b="0" i="1" lang="pl-PL" sz="2600" spc="-1" strike="noStrike">
                <a:solidFill>
                  <a:srgbClr val="320e04"/>
                </a:solidFill>
                <a:latin typeface="Verdana"/>
              </a:rPr>
              <a:t>Od walenia po łapach do zmarszczenia brwi, czyli o środkach dyscyplinujących w szkole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, Warszawa 200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475a8d"/>
                </a:solidFill>
                <a:latin typeface="Verdana"/>
                <a:ea typeface="Verdana"/>
              </a:rPr>
              <a:t>Pogłębianie wiedzy z zakresu pedagogiki i psychologii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Lektura art</a:t>
            </a:r>
            <a:r>
              <a:rPr b="0" lang="en-GB" sz="2600" spc="-1" strike="noStrike">
                <a:solidFill>
                  <a:srgbClr val="320e04"/>
                </a:solidFill>
                <a:latin typeface="Verdana"/>
                <a:ea typeface="Verdana"/>
              </a:rPr>
              <a:t>y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kułów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- Praca wychowawcza w klasie trudnej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,  M. Koźlak, „Nowe w Szkole”- 2003, nr 1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- </a:t>
            </a:r>
            <a:r>
              <a:rPr b="0" i="1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Praca wychowawcza z klasą trudną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, I. Rodzaj, A. Iłendo, „Problemy Opiekuńczo-Wychowawcze – 2001, nr 7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20e04"/>
                </a:solidFill>
                <a:latin typeface="Verdana"/>
                <a:ea typeface="Verdana"/>
              </a:rPr>
              <a:t>- </a:t>
            </a:r>
            <a:r>
              <a:rPr b="0" i="1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Uczeń z trudnościami – problem czy wyzwanie?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, M. Iwanowska, M. Kazimierowicz, „Nowa Szkoła” – 2003, nr 4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- </a:t>
            </a:r>
            <a:r>
              <a:rPr b="0" i="1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Uczeń niedostosowany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, M. Krawczonek, „Edukacja i Dialog” 2002, nr 4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475a8d"/>
                </a:solidFill>
                <a:latin typeface="Verdana"/>
                <a:ea typeface="Verdana"/>
              </a:rPr>
              <a:t>Pogłębianie wiedzy z zakresu pedagogiki i psychologii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Dostosowywanie metod do indywidualnych możliwości uczniów; motywowanie do nauk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  <a:ea typeface="Verdana"/>
              </a:rPr>
              <a:t>organizowanie zajęć dodatkowych dla uczniów z trudnościam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19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475a8d"/>
                </a:solidFill>
                <a:latin typeface="Verdana"/>
                <a:ea typeface="Verdana"/>
              </a:rPr>
              <a:t>Wykorzystanie powyższych form doskonalenia w pracy z młodzieżą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547640" y="1267920"/>
            <a:ext cx="7407360" cy="3660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20e04"/>
                </a:solidFill>
                <a:latin typeface="Verdana"/>
              </a:rPr>
              <a:t>Wymagania egzaminacyj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20e04"/>
                </a:solidFill>
                <a:latin typeface="Verdana"/>
              </a:rPr>
              <a:t>§ 7 ust. 2 pkt. 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320e04"/>
                </a:solidFill>
                <a:latin typeface="Verdana"/>
              </a:rPr>
              <a:t>„</a:t>
            </a:r>
            <a:r>
              <a:rPr b="0" i="1" lang="pl-PL" sz="2800" spc="-1" strike="noStrike">
                <a:solidFill>
                  <a:srgbClr val="320e04"/>
                </a:solidFill>
                <a:latin typeface="Verdana"/>
              </a:rPr>
              <a:t>Umiejętność posługiwania się przepisami dotyczącymi systemu oświaty, pomocy społecznej lub postępowania w sprawach nieletnich w zakresie funkcjonowania szkoły, w której nauczyciel odbywał staż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Udział w szkolenia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„</a:t>
            </a:r>
            <a:r>
              <a:rPr b="0" i="1" lang="pl-PL" sz="2600" spc="-1" strike="noStrike">
                <a:solidFill>
                  <a:srgbClr val="320e04"/>
                </a:solidFill>
                <a:latin typeface="Gill Sans MT"/>
              </a:rPr>
              <a:t>Awans zawodowy nauczyciela – przygotowanie dokumentacji z uwzględnieniem zmian w prawie oświatowym”(</a:t>
            </a: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Centrum Doskonalenia Edukacyjnego; październik 2007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320e04"/>
                </a:solidFill>
                <a:latin typeface="Gill Sans MT"/>
              </a:rPr>
              <a:t>„</a:t>
            </a:r>
            <a:r>
              <a:rPr b="0" i="1" lang="pl-PL" sz="2600" spc="-1" strike="noStrike">
                <a:solidFill>
                  <a:srgbClr val="320e04"/>
                </a:solidFill>
                <a:latin typeface="Gill Sans MT"/>
              </a:rPr>
              <a:t>Awans zawodowy nauczyciela” (Samorządowy Ośrodek Doskonalenia Nauczycieli w Krotoszynie; maj 2008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Udział w radach szkoleniowych na temat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214280" y="24285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b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ezpieczeństwa i higieny pracy</a:t>
            </a:r>
            <a:r>
              <a:rPr b="0" lang="en-GB" sz="2600" spc="-1" strike="noStrike">
                <a:solidFill>
                  <a:srgbClr val="320e04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ierwszej pomocy przedmedycznej</a:t>
            </a:r>
            <a:r>
              <a:rPr b="0" lang="en-GB" sz="2600" spc="-1" strike="noStrike">
                <a:solidFill>
                  <a:srgbClr val="320e04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procedur przeprowadzania egzaminów gimnazjalnych</a:t>
            </a:r>
            <a:r>
              <a:rPr b="0" lang="en-GB" sz="2600" spc="-1" strike="noStrike">
                <a:solidFill>
                  <a:srgbClr val="320e04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9640" y="360360"/>
            <a:ext cx="7407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a8d"/>
                </a:solidFill>
                <a:latin typeface="Verdana"/>
                <a:ea typeface="Verdana"/>
              </a:rPr>
              <a:t>Organizacja własnego warsztatu prac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439640" y="1848960"/>
            <a:ext cx="7407000" cy="4651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Opracowywanie rozkładów materiału i planów wynikowy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Tworzenie planów pracy kół zainteresowań oraz zajęć dodatkowych prowadzonych z własnej inicjatyw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14280" y="197928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u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  <a:ea typeface="Verdana"/>
              </a:rPr>
              <a:t>czestnictwo w tworzeniu prawa wewnątrzszkolnego – opracowywanie planu naprawczego szkoły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  <a:ea typeface="Verdana"/>
              </a:rPr>
              <a:t>uwzględnianie aktów prawnych w sporządzaniu planów wynikowych, ocenianiu, promowaniu uczniów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214280" y="197928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  <a:ea typeface="Verdana"/>
              </a:rPr>
              <a:t>wykorzystywanie elementów prawa dotyczącego postępowania w sprawach nieletnich we współpracy z kuratorami oraz w redagowaniu przeznaczonych dla sądu opinii o ucznia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p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  <a:ea typeface="Verdana"/>
              </a:rPr>
              <a:t>omoc uczniom i rodzicom w wypełnianiu wniosków o pomoc socjaln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214280" y="197928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  <a:ea typeface="Verdana"/>
              </a:rPr>
              <a:t>praca w komisji podczas egzaminów gimnazjalnych oraz maturalnych (część pisemna i ustna) – poznanie procedur przeprowadzania i protokołowania tego typu egzaminó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ymbol zastępczy stopki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2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Doskonalenie</a:t>
            </a:r>
            <a:r>
              <a:rPr b="0" lang="en-US" sz="4300" spc="-1" strike="noStrike">
                <a:solidFill>
                  <a:srgbClr val="475a8d"/>
                </a:solidFill>
                <a:latin typeface="Verdana"/>
                <a:ea typeface="Verdana"/>
              </a:rPr>
              <a:t>  </a:t>
            </a:r>
            <a:r>
              <a:rPr b="0" lang="pl-PL" sz="4300" spc="-1" strike="noStrike">
                <a:solidFill>
                  <a:srgbClr val="475a8d"/>
                </a:solidFill>
                <a:latin typeface="Verdana"/>
                <a:ea typeface="Verdana"/>
              </a:rPr>
              <a:t>własnych umiejętnośc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57200" y="428400"/>
            <a:ext cx="740736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Verdana"/>
              </a:rPr>
              <a:t>Ud</a:t>
            </a:r>
            <a:r>
              <a:rPr b="0" lang="pl-PL" sz="3200" spc="-1" strike="noStrike">
                <a:solidFill>
                  <a:srgbClr val="572314"/>
                </a:solidFill>
                <a:latin typeface="Verdana"/>
              </a:rPr>
              <a:t>ział w warsztatach i szkoleniach organizowanych przez ośrodki doskonalenia nauczycieli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58920" y="2071800"/>
            <a:ext cx="7407360" cy="2293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„</a:t>
            </a: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Rozbudzanie u uczniów motywacji do nauki” (ODN Kalisz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„</a:t>
            </a: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Jak zachęcić rodziców do współpracy” (ODN Kalisz – rada szkoleniow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57200" y="428400"/>
            <a:ext cx="740736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72314"/>
                </a:solidFill>
                <a:latin typeface="Verdana"/>
              </a:rPr>
              <a:t>Udział w warsztatach i szkoleniach organizowanych przez ośrodki doskonalenia nauczycieli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58920" y="2071440"/>
            <a:ext cx="7407360" cy="520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„</a:t>
            </a: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Uczeń o specjalnych potrzebach edukacyjnych wobec egzaminu” (ODN Kalisz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„</a:t>
            </a:r>
            <a:r>
              <a:rPr b="0" lang="pl-PL" sz="2600" spc="-1" strike="noStrike">
                <a:solidFill>
                  <a:srgbClr val="320e04"/>
                </a:solidFill>
                <a:latin typeface="Gill Sans MT"/>
              </a:rPr>
              <a:t>Metody aktywizujące w procesie nauczania i uczenia się” (ODN Kalisz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62626"/>
                </a:solidFill>
                <a:latin typeface="Verdana"/>
                <a:ea typeface="Verdana"/>
              </a:rPr>
              <a:t>Uczestnictwo w szkoleniach organizowanych przez wydawnictwa oświatow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58920" y="2071440"/>
            <a:ext cx="7407360" cy="520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„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Jak doskonalić pisanie dłuższych form wypowiedzi?” (GW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„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Jak czytać, aby rozumieć?”(GW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„</a:t>
            </a:r>
            <a:r>
              <a:rPr b="0" lang="pl-PL" sz="2600" spc="-1" strike="noStrike">
                <a:solidFill>
                  <a:srgbClr val="320e04"/>
                </a:solidFill>
                <a:latin typeface="Verdana"/>
              </a:rPr>
              <a:t>Sposób na lekturę”(GW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Symbol zastępczy stopki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KROTOSZYN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Obraz 6" descr="vfnh.png"/>
          <p:cNvPicPr/>
          <p:nvPr/>
        </p:nvPicPr>
        <p:blipFill>
          <a:blip r:embed="rId1"/>
          <a:stretch/>
        </p:blipFill>
        <p:spPr>
          <a:xfrm>
            <a:off x="6389640" y="4797360"/>
            <a:ext cx="2754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9:37:44Z</dcterms:created>
  <dc:creator>Tomek Pat</dc:creator>
  <dc:description/>
  <dc:language>en-US</dc:language>
  <cp:lastModifiedBy>Tomek Pat</cp:lastModifiedBy>
  <dcterms:modified xsi:type="dcterms:W3CDTF">2010-07-04T19:24:40Z</dcterms:modified>
  <cp:revision>78</cp:revision>
  <dc:subject/>
  <dc:title>Prezentacja dorobku zawodowego nauczyciela kontraktowe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VersionDisabled">
    <vt:lpwstr>0</vt:lpwstr>
  </property>
  <property fmtid="{D5CDD505-2E9C-101B-9397-08002B2CF9AE}" pid="3" name="Description">
    <vt:lpwstr/>
  </property>
  <property fmtid="{D5CDD505-2E9C-101B-9397-08002B2CF9AE}" pid="4" name="ItemType">
    <vt:lpwstr>1</vt:lpwstr>
  </property>
  <property fmtid="{D5CDD505-2E9C-101B-9397-08002B2CF9AE}" pid="5" name="MetaInfo">
    <vt:lpwstr/>
  </property>
  <property fmtid="{D5CDD505-2E9C-101B-9397-08002B2CF9AE}" pid="6" name="Order">
    <vt:lpwstr/>
  </property>
  <property fmtid="{D5CDD505-2E9C-101B-9397-08002B2CF9AE}" pid="7" name="_SharedFileIndex">
    <vt:lpwstr/>
  </property>
  <property fmtid="{D5CDD505-2E9C-101B-9397-08002B2CF9AE}" pid="8" name="_SourceUrl">
    <vt:lpwstr/>
  </property>
</Properties>
</file>